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348-9DAF-4E5C-BEBB-B0077578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B78-7409-45BB-B1CA-21930B5A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0C8-FC4F-43D4-855D-CF898FC3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398-7891-4202-B0F2-6D70E7DB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9DD-D20A-4903-AF3C-8C335A35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AD42-6464-4207-BC3D-6A09C3D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0736-DB3E-4E02-AD5F-CF8D6C5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4EF-36B7-4074-AB17-3117F73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28CC-7333-4306-A5B7-8E6B36D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1B41-357A-40B8-88D1-A9F6C0E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6E3-7764-4E59-BB38-14B0444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38E-05A4-41E9-BBD4-1AE14EA1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8641-8325-4D6A-8FD1-09F22F65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602E-E38F-40E9-98D1-486BBC2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6959-F3A3-49D2-B9C4-E3D5B1B4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A2FF-2C36-48A2-932C-C9E087DC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2D5A-4645-44B7-82D9-593F852C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EE5D-98D1-4A87-B55D-B9A7F615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66E3-AB81-4ACD-94AD-D3451EE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4BC21-B500-4198-A9EF-9642173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A332-C0EB-4AD1-AEE7-9C964BFE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15E0-91D9-487D-908F-6246A04B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8CC-6B36-439A-A994-04E605B3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293A-7733-46A3-A47D-82BAEF51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5C17-3C2B-4823-98F0-C8431555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AF0B-F458-462B-BF09-191A033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489F-ABA3-4C02-8680-2E177BFC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E29E-39DF-47A3-B708-6DCB41CC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FE3D-84DA-4FE8-AB0A-C93B73BE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B9DE-CE74-4F5D-9BA9-B781DF31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4BFB-E020-47FF-A368-968390A6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84CC-8B65-4DCC-A196-39317405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9D9B-0783-4B38-BDB5-DB82F71F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CDB-B01B-4D74-A65F-7FD77F60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117D4-F5A9-44E5-9ECC-0F5B230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21CF9-D071-4F23-AF32-B64DF861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3AD82-6A87-4E17-B4DE-45056680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8B39-5AE8-4E34-B74F-DB7C4F1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2241-E1A5-405F-878E-1A8AC6C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F031-D8D6-4FF9-AEE1-131D4D3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1F75-503C-4464-9E89-4E178ED6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0485-3B84-4DA7-8FD2-95F4EE7D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648D-8281-4598-B6D7-16B4327A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D27A-5C07-4AF7-8E11-F993BDBF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9B5-02B8-4ECA-B803-21391ED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D178-A96D-4A39-BAEB-F8AC3443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1E65D-BB30-4E99-A36C-836BDA7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D9F3-FA26-4441-87C8-8F72E6A9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F41B-BC9A-4986-A8CB-2AACC15C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46BF-56CA-4A80-B3C8-526E67AA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28D7-3DA6-49C5-949D-6E14ED32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408A-FBC8-45DA-BEE9-789722A7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A76B-247A-4FBB-8294-2A1176C6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0FE5-9A07-4C25-9C64-FD5CE7F1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6D68-9295-4F48-B8A8-BB47104F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63D-4A98-4779-9E6F-04EB799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60F4D-63D6-40BC-98E2-0B84E806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B685-F5C4-443A-89B3-9966E9BA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70EB-FF4E-4D6C-910A-1DAB6F7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D0196-B178-4B02-B316-BB7407B0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797C5-3F20-479E-88E2-CA60336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8103C-3B8D-4EC9-945B-9A82BEB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2186-F813-4602-9249-7007B4AB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AA50-02A7-478B-8671-5ED5570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6CE25-FB32-43EE-A761-FE03D7C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02F0-CFA5-4FC4-8327-6529879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AB6-B7AF-40B4-B1EB-48A6E48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D0D8-9D67-4294-B169-493A9D73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2E49-6A54-4008-89E6-CF8B8851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4C3A4-F7FE-413A-B507-139E4893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249AE-7858-468A-B2B7-DFD9FF10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23B2F-598E-4617-8D5C-DD8A5A87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FFE26-7680-4ECC-B9EE-269D84A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D49C-6E82-45B6-81D5-0AB8E20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4875-D1A2-4B42-9718-92523E9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5740-05B3-4935-9947-1D83D5E5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CE3D-88F3-454A-B616-A948AD9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AD1-A358-473A-9C77-87FDDE6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4528-6D9A-4207-8BB7-A597DB3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F273D-97BF-4B5C-8F4A-4672C3E4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6AFBD-268A-49EF-841F-1DB18353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19FF-D253-47BD-8103-C77280BA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0658-6285-45BD-BD8E-9E9DD74A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0A820-BFF5-487D-874C-C18C876E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7DC43-65C3-4167-8616-ABD22B4A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0EA1F-4D4B-4B6E-814D-99CB1DC1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CDA89-E81C-49CD-B413-E3F1FD22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29A0-9E26-4A06-A3B4-8FEC420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6EC-BED2-43C4-8FF8-80FE3F6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87C0-414A-4A28-8EC3-A7CA31C9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ABFC-6A7D-4BF7-9610-E7EC7E1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5EA73-8061-4E3A-9B22-5390E3CD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E3CD-BF90-4940-839A-ED889DB3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3A539-032F-40EB-AEB6-84A11A75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BBF32-40C5-421D-BACB-4D327C78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117CE-28F2-43CC-951F-1753B68F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B1D-8B33-46C2-9CFC-54893D06D221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7E72-AB2D-4D45-92A8-0D7E3B33224E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EA5B-3C98-40E9-82F6-F953CB86CF21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1954-08DF-448D-A335-771E55A25880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877-8780-4A19-AF16-0E475191B35E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5020-90ED-4CB9-B734-DF07030C889F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685-BD85-42FA-8A43-BC7A28E26975}" type="slidenum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1819-88DD-44CF-8714-74D6CCFB1060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6" descr=""/>
          <p:cNvPicPr/>
          <p:nvPr/>
        </p:nvPicPr>
        <p:blipFill>
          <a:blip r:embed="rId1"/>
          <a:stretch/>
        </p:blipFill>
        <p:spPr>
          <a:xfrm>
            <a:off x="55440" y="1139760"/>
            <a:ext cx="91314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изантијска медицина достиже свој  врхунац у VI веку током владавине цара Јустинија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ти лекари тога времен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рибазије, Аетије, Павле Егински..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Њихова дела су компилације старогрчких класика, са јасном поруком -  БОРБА ПРОТИВ ПРАЗНОВЕР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547640" y="268200"/>
            <a:ext cx="8444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ериод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-самостанс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-сколастичк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Самостанска медици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Сколастичка медици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Арапска медици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редиште свих медицинских догађања- самостани под неприкосновеним утицајем цркв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убока вера да је овоземаљски живот кратак увод у загробни живот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ладар света- бог, а његов заменик  на земљи - Пап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атински језик једино промењив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ржава под  потпуним утицајем  и зависности од цркв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78588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ти Бенедикт, оснивач бенедиктанског реда- при манастиру на планини Монте Касино, у средњој Италији, прва манастирскa болниц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болница у Лиону (6. век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 Паризу (7.век)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Лондону (8.век)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луђери почињу да гаје лековито биљ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није оснивају апотек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че различитим начинима осим хирушким- “Свештенство се грози крви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ивају се прве школе- самостанске и епископске градске школе – наредбом Карла Великог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а школа основана је у Салерну у 9. веку (јужно од Напуља), позната  по свом медицинском факултету у 11. и 12. веку=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пократов гра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Школа је имала три одељења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филозофско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правно 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медицинск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084400" y="225360"/>
            <a:ext cx="84376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анатомски уџбеници који су се заснивали  на сецирању свиња, са демонстрацијама у настав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џбеник целокупног лекарств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ихови o медицинским и хигијенским по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м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италијански и европски уџбеник хирургије- излагао античку, арапску и народну хирургиј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италијански и европски уџбеник окулистик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24308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2. век-Болоња, Монпеље, Париз, Оксфорд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ктичне наставе није било до 13. и 14. века; читање познатог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периоду од  1200. и 1500. год. основано око  80 универзите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 13.века повећа ва се број световног наставног особља и лекарског у болница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Црквени сабор у Латерану забранио је духовницима да се баве лекарским радом јер их одваја од духовног ра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55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48104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најранијем периоду имала је  демонистички карактер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време  Мухамеда- религозни карактер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кон Мухамедове смрти (632.г.)- експанизја Арапа у остале делове свет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43820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 Византије - тековине грчкоримске медици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пунили је и испреплетали  својим искуствима и лековима (камфор, алкохол, дестилована вода, разни сирупи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представља спону између класичне грчко-римске и модерне ренeсанснe мeдицинe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987480" y="26820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2824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мско царство се расапало 395. године на Источно и Западно римско царство, (након смрти цара Теодосија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падно римско царство је престало да постоји 476. године, а Источно римско царство (Византија)  је датирало  до 1453.г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дом Византије-укинут робовласнички систем и почиње феудални систем који је трајао следећих 1000 годи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Rectangle 4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рапски лекари – Галеновим стопа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су практиковали  секције лешева из верских разлога -  стагнација у  анатомији, физиологији, патологиј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3. век-  лекар  Ibn an Nifis (из Сирије), први је описао плућни крвоток, што је најпре заборављено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24308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ови као што су камфор, арсеник, жива, етерична уља- значаја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 у терапиј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лхемија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ко 900. год. Џабир открио алкохол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Разес, сумпорну киселин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39536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нголи су 1258. год. заузели Багдад...престао културни живот Арапа на истоку, док је на западу  престао 1392. год. падом Гранаде..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64646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е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вицен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бул Каси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У осталим европским земљама цео средњи век представља таман односно  мрачан период у развоју зубне ме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Једина дентална интерврнција- екстракција зуб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.. Као доказ: већина француских средњовековних краљева била  је без зуба односно ,,крезуба,,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љадугодишњи период средњег века= културни пад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нове вере – хришћанска вера  на територији Римског царства (326.г. Цар Константин је прогласио хришћанство за официјелну религију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330.г. премештена  престоница у Византион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zanti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 названа Константинополис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stantinopoli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- Цариград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39536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снива се на милосрђу и љубави према ближњем...то је био нови почетак потпуно другачије бриге и помоћ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ују се прве болнице, склоништа, за сиромашне и немоћ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триције Фабиола, у IV веку отвара прву болницу у Риму - више прихватилишт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ариградски патријарх Хризостом око 400. године уредио у Цариграду болницу са сталним лекарима и болничари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835200" y="26820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60912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Епидемије средњег век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редњи век карактеришу велике епидемије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п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 у касном средњем веку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г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страшнија епидемија куге је била у ХIV веку=“црна смрт” од које је умрло 50 милиона људ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воде се нове мере у борби са епидемијом - изолација, карантин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Византијск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У оквиру јаке организације западне хришћанске цркв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У оквиру арапских држава- Самарканд-Техеран-Багдад-Каиро-Корд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28240" y="14810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напређивала емпиријску медицину, делимично допуњена магијским елементим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ло унапређена теориј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јатрософ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уџбеници на западним медицинским факултет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437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учавала се грчка медицина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IV веку у Сирији су била чувена  шеснаесторица свештеника-лекара, међу њима и браћа Кузман и Дамјан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чин лећења - искључиво молитвама и из милосрђ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 време Диколецијана, Кузман и Дамјан су погубљени у Рим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а црква их је прогласила свецима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017720" y="268200"/>
            <a:ext cx="8437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кејски црквени сабор  - одлука о оснивању болница и азила под окриљем цркв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з помоћ прилога и поклона, отварали болнице, азиле и прве социјалномедицинске установе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озокомије (болнице)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рфанотрофије (азиле)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ронтокомије (домове за старе)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474920" y="268200"/>
            <a:ext cx="8437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21:42:04Z</dcterms:created>
  <dc:creator>MEDF</dc:creator>
  <dc:description/>
  <dc:language>en-US</dc:language>
  <cp:lastModifiedBy>Mirjana Petrovic</cp:lastModifiedBy>
  <dcterms:modified xsi:type="dcterms:W3CDTF">2020-02-14T08:38:4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